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CB9-C6B4-40FF-9FDF-945D888E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7EB-4BEC-4FD6-A900-B7520EB0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698-95C8-4AB9-8216-7F1327C2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B35-23DD-4C83-BACD-E5A2934A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54A-9A57-44A9-8349-8D66F48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3A4-7EE7-4F1B-AA12-B67539D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A74-B477-4699-A0EA-C31BBC6F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567-FDF4-4B47-8C43-79581EF0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FA4-6521-4291-8C41-C306A60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F69-7695-4C62-B992-5D58AA3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1DE-7F05-4A0F-A77B-4D49546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1FF-1CB2-401F-895E-E8F0EAF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DF70-4FE6-48D0-8538-6F29446C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exhaustive testing is no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arry out function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arry out structur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erform walkthrou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arry out testing using single ste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program with two inpu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des which is largest each range  0 .. 1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put entered in individual test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oth equal display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use of how a program works (the structure) as basis for testing. Ensure every path within program is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/else statements all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ata for Vot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 ot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ions and walkthroug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with out use of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program along with the specification – try to see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best if a person who did not write the program does the walkthrough (another pair of ey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: The program, text of program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one method at a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initi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correctly initialized / ter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calls have correc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are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program except no following calls to othe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logic – does it achieve the desired purpose (see specif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and method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clear and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yle while not checked may point out weakne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ing through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Java systems provide debug with single step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each step – path ev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(contents) can be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program executing expected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of variables as they are changed (are they corr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thod tests existence of bug – confirm or d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mathematics to attempt to verify that program meets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precision of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tion may have to be re-written in formal mathematics notation ‘Z’ specificatio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program and verify it conforms to specification (requires time and ski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 program from specification by a series of transformations (the formal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appealing process: rigorously verify programs correctness beyond all possible doubt (note humans perform tests – mistakes can be ma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erification beyond the scope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program, key it in, ‘try’ to run it – usually results in lots of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compilation errors ba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usually executes may exhibit unwanted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y debugging/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are complex, difficult to make work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ttempts to verify if a program is working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is enormous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one-half the total time spent on program development is done in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-bang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write/test whole program – all parts all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mental progra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ign and code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small piece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key it in, fix the syntax, run,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dd a small new 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repeat from step 2 until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art from most simple events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techniques try to establish program is error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be exhau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box – uses only specification to choo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box – uses knowledge of how program works to choose te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ion – study program 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ping through code – can be valu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– can avoid complexities of developing larg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erifi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box or functional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box or structural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s or walkthrou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ing through code with a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single class program usually tested all a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one may require being tested in pie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va class is a convenient siz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plete program brought together ‘integration’ or system testing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inputs a series of numbers via a textbox. The program calculates the sum of the numb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numbers int or dou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ermissible range and precision requ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egative numbers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austiv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ll possible data, values for a program with integers would have to try billions of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austive testing is not fea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sample data that is representative of all possible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ledge of program (blackbox) is used – only inputs and out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functional testing – only knowledge of the function of the program – not how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ly test precedes by writing down test data and expected outcome (testing specification or sched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at check if exceptions are hand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Voting checker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&lt;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&gt; =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the input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representative data from each par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data at the boundaries of the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7:19:37Z</dcterms:created>
  <dc:creator> </dc:creator>
  <dc:description/>
  <dc:language>en-US</dc:language>
  <cp:lastModifiedBy> </cp:lastModifiedBy>
  <dcterms:modified xsi:type="dcterms:W3CDTF">2005-05-11T17:27:27Z</dcterms:modified>
  <cp:revision>2</cp:revision>
  <dc:subject/>
  <dc:title>Testing chapter 20</dc:title>
</cp:coreProperties>
</file>